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C859-AEFC-4F75-9F15-1BF13CEF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5C9-F74B-4239-A719-03596409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3D5F8-263F-4B0F-98FD-203F9CCB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4D42E-6251-4390-A6EF-99716820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1C89E-00F8-4699-BE89-A4BCD17B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3A743-37A6-448D-8185-F47EC44B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6E344-40E3-49E1-B849-875A7F56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6E10F-0784-4C75-8C97-EDB44BB7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53AA4-82F3-4A43-BC26-58C01A38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167FB-E235-4FEE-BD2A-BB73A5C4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46C6E-3F4F-4E27-820E-61065C90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D24D6-D038-4B2C-B59A-9BB8C13C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255C-924E-4444-9E6E-035CB0EA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FE422-1343-434E-9A1E-A3FA84E0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94EF0-7510-497C-8DD4-B0E22499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F26F7-37C8-4E16-9641-D6E4B063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39B89-8640-44E1-8185-1E708C41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F11D8-DCCE-43F6-927D-15B225E2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01278-2CA0-49A7-AA2D-F41A0E31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0CEA6-BE77-427F-B2B7-472E20F8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5888C-52A5-4E94-A286-E8C89847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FD66D-D94A-4DAB-8977-05E70EE9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68B6C-7317-4179-9D3D-E073FD35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D77-8268-4E55-AEF4-5F0B97F7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C1090-D002-4188-A357-11D1E33D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2812B-7CEF-46EF-BCFC-B6B4E8C5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CF981-AF3A-4EC9-A76D-58072D72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A1223-336F-4A70-8619-D06F3A97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4C5C1-7BD3-43C9-A5C1-C46428E7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4A19D-8342-4D45-905B-8064C7D2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D1E9E-8FA2-4305-A817-75A2B37C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2AC2B-7C45-4848-82F1-1E397FCC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4FE3D-97CB-422F-8715-02C74C74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AE9BC-BCD9-438D-A057-1561044E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EEEC-E989-470F-9E01-E5AEB4F4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72282-3B66-4990-BE2B-F3D74B7D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016D5-544A-46B3-B3A0-C80264C7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956A0-6AA6-4E54-8348-9E141464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954F1-B17B-45C4-A000-0D6564B1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9FDB3-42A5-44BE-AFD9-8FFE2A2C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7AE82-D195-4874-9CCF-C74A2179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A4FAB-02E3-4F38-A707-1627EF40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6AFF0-388A-4869-8C45-2C3868FA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05713-961E-4CA3-A6A4-F8C39D9D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BDA03-2E10-4351-AE88-28A4A092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E03B-27BC-4831-A56B-D73A580B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C3FE2-1AFD-4616-989E-4670B874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47EC0-6C56-4D7F-9A49-FD2705E3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325C9-0F9E-4B2D-B327-28B87004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9BB9F-3C0C-44CC-A626-93CB647B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5D555-B1E7-4351-B753-98DAE6EB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6791-B98C-4A05-B344-94DBEF3D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8A43-561B-4BED-8855-123244F9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8E51-116E-416B-8029-BCECA93C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D491-3A58-4474-98D5-1ADE793B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0F9B-257D-49A9-B91F-9AD6E9D5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40C-16EA-401D-BAEB-4451AB16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9F7D-D8E1-46C7-A2E8-4F20A18C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197C-81FF-4E34-93EA-A5F62A8D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C2E9-E998-4289-86C3-D87DCF98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985F-4809-4E9C-A657-BC5B7D1F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BFEB-AA1D-4A57-8F17-1D315D3E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E6798-C317-4DA4-BB2E-BFE78D98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DF894-3E75-4AF9-A367-B0E1895C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7B91B-7845-4060-A2A7-A090BA51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E3CF1-0219-443E-89DB-A11D3FD8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B36FA-F25D-4247-AFD0-11DC9CA4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917-795C-4478-8A05-A4D1E015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5E33B-D2BF-4ACD-999B-285E7822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38656-BA47-495F-9469-EB9B1969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8DC3C-802A-4950-B278-CEE930CE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40B7A-3116-411E-B52C-C22243CF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A84DD-3D16-4E4B-83FB-16337979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22E01-A058-487E-93A5-1E70C08B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8A6D1-1E69-4B29-9453-576047D8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7F90A-5C1D-49F7-A037-75EB20E5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59A2B-067E-426F-8FA5-486DA874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7C266-80AE-4AA2-AA9F-B66F8A48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37F-140C-48FA-B36E-F7BFEB54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98053-9E8C-41CC-B164-94211C21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C7325-BBD1-4F6F-B843-6E152BC6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A039D-401E-41C3-AAAB-BBA16EA5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E9226-CC68-45D2-8D6F-8FA930B3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59118-9CF2-46B9-B86D-BDE62987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79DF6-2E14-4666-B4A0-AAE3BFF4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8E826-0744-4EE0-BFDA-95B51986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B47B9-CFB2-4B78-9822-CCC2B349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D7F9A-97A3-4FB7-8F70-6D67BF13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ED331-3AFA-4A2F-806D-C0CC7AF6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D489-269F-4AEC-918D-7A821DB7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BFAA5-B28F-4B20-97A2-38F1A1C4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E5775-30D2-4130-A57A-73CB2789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6ED5D-880C-4324-B1BD-5A1FD251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9EAC9-2BE9-47CE-BDFE-C5854A50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868E4-5FE0-45AF-9E7A-5D3046A0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CCFCD-D967-4264-8850-F29FFABA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5F4A9-6A3D-4C04-A522-861DE8E4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41384-D2DB-4EAE-8992-05C7245D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D8E7D-DD7B-49D1-9EE5-9EEF9835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24582-AADC-4ACC-85B7-3B9AB605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706-928F-4B3F-AB0F-056B9998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55331-21C6-4C85-B2A1-8830E274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77BA1-C959-45D6-80BC-8E62D55F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A27C2-878E-4A1C-8744-4A835691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9FAB7-20B4-424F-94E2-69F6C114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7E933-DC28-4B22-AD6E-6E29A558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E5F08-0C30-437A-AFF7-B6EF5E80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D6C33-AC2E-42CE-9B34-6AA5295F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C52D5-CFE1-42C0-B6EE-A21DCB4C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65326-93DF-4AD6-B34C-35BBC555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527FB-CF24-4568-B0B6-F40041B5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171-20EB-4016-A505-F40DE096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812C8-1CC8-4209-A511-2706B5E7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395D0-37F2-47F0-98B3-81237A15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CA4CF-4247-4788-BF43-CE657628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5EF90-F6C2-4372-8A71-7756312D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55B6A-55BC-42EF-AA36-35E06329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1ABE0-34AD-4496-88D6-B0C0C02F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B8475-7CE1-4F0F-A94F-96244190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CB498-B9A2-49E1-B19A-1556628F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7A7D8-7B01-41EE-8098-B7CE1683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CF8A8-FD67-4040-BAE5-5010DCA6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33B-39AE-4B5E-8257-01186766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91E71-20A4-4D43-9F9F-83D83777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F8777-17A2-48AC-BD42-E4055F14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32626-A14F-4B6E-B094-3F530793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00336-2E19-4722-B955-C333DADB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168BC-CD0B-4841-9DAB-1C8B46BD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B4E41-0DD5-4ADD-8BE6-70871591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7C418-0096-4C5E-B564-529F9941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B51AE-501B-4CA4-999C-9AF17F22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EF9E0-A5EC-4641-8ABD-DA30B3BC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088D4-0C33-4889-AE93-30F29585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C2F-5CA4-4EEA-BB52-83E4B055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07177-59DB-4F5C-BF3C-84A3AF27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37EAB-CA09-47F0-93FB-0A4F602E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6738F-94B3-405B-BA7D-E9B8EA91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74DED-FB0D-4F5C-A71D-E3681848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AC377-2294-4FDA-B7EA-69F80CDA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7BD13-60D2-4B97-BD2E-585E0A7E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2847D-DD21-48CB-8BE1-A75AF8DD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F1496-C159-4031-BCFC-B709400C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E4761-F963-4B1E-A77F-84A36E15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EDC70-ED6B-4F9B-A611-A7772AE1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9FAA-071C-42FE-B48E-63C6EB107F3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AEF6-5232-42DB-BFA4-112E4428F7A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2992-B7CC-45FA-BA2F-24893AE1C4B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4588-3505-440E-AF3E-069E9F02845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9789-502F-4F44-8FDC-FFFC2D08179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146D-E6C2-47C5-9961-583938CC0AC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8D7C-0D0E-4A65-92DE-EE5CEE86BB6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15DA-168C-4108-8D4F-A506348056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187F-A032-4784-AE41-EFE439EC2FA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E07F-E30A-44CF-8AAC-D2D391DB47C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D692-B23C-4596-80B6-85FFAEA6900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99BE-A575-4958-A5B7-6E5ACAA0F57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19 Tej tvojej svätej krvi prú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j tvojej svätej krvi prú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mojej spásy zdr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 tebe, Pane spočinú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avždy byť len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život v tebe pram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teba spásu večnú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n hriechu navždy zbave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sa ti, Pane odo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voja láska odvek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 tešiť v úzk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hriechu zbaví člove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 balzam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život v tebe pram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teba spásu večnú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n hriechu navždy zbave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sa ti, Pane odo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už tu cítim tvoju moc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ú tvoju dobrot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premôže raz hrobu noc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zkriesi k život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život v tebe pram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teba spásu večnú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n hriechu navždy zbave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sa ti, Pane odo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 svetle tvojom vykroč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ebou v isto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mieť  ťa budem veleb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večnom živo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život v tebe pram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teba spásu večnú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n hriechu navždy zbave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sa ti, Pane odovzd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4:30:19Z</dcterms:modified>
  <cp:revision>23</cp:revision>
  <dc:subject/>
  <dc:title>Je veľký náš Pán, on slávy je Kráľ Nech do všetkých strán  spev vrúcnych znie chvál.</dc:title>
</cp:coreProperties>
</file>